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689-D5C2-430B-85DD-EB25F2C2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768-7693-421F-894F-B73A839E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CDC-9524-41D6-9DB5-D087ED17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463-52AB-4A3F-99A2-EA52A356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536-E257-411B-99D0-8BCC689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71B-B803-443C-B388-CBDB278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391-3A2F-4271-90E1-3830FCDC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385-EBF7-4653-8F81-3201780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504-5070-4240-9518-25A81269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F7D-4869-4BEB-9B1A-8C9CA41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53B-D8E6-4EEC-AB13-780F448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01A-20C2-4FA8-8D9D-B4156082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876C-AB9F-4E49-89DD-8975FA3A2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/Vocabulary/Math Exercise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these prefixes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the prefixes on your paper with the meanings on the following slide. (Each meaning is used once, but some prefixes mean the same thing. Example: More than one prefix mea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Objectives for this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/or refine AIMS reading and math skill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/reviewing the meanings of various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/reviewing examples of words created with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and calculating possible word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skills include: application, analysis and synthesis of vocabulary and math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 mea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/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/be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r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er/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o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p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/away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before/in fron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/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ve/carry 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/gu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6:39:45Z</dcterms:created>
  <dc:creator>ASD</dc:creator>
  <dc:description/>
  <dc:language>en-US</dc:language>
  <cp:lastModifiedBy>ASD</cp:lastModifiedBy>
  <dcterms:modified xsi:type="dcterms:W3CDTF">2011-05-31T19:07:36Z</dcterms:modified>
  <cp:revision>4</cp:revision>
  <dc:subject/>
  <dc:title>What do these prefixes mean?</dc:title>
</cp:coreProperties>
</file>